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60A9-7A26-4008-99B9-8839D1266E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consists of four main components, as shown in Figure 4-19: management appl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infrastructure, providers, and managed objects. Management applications are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s that access and display or process data that the applications obtain ab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d objects. A simple example of a management application is a Performance to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ment that relies on WMI rather than the Performance API to obtain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formation. A more complex example is an enterprise-management tool that lets administra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erform automated inventories of the software and hardware configuration of e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uter in their enterpri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MI infrastructure, the heart of which is the Common Information Model (CIM) 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ager (CIMOM), is the glue that binds management applications and providers. (CIM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bed later in this chapter.) The infrastructure also serves as the object-class store and,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y cases, as the storage manager for persistent object properties. WMI implement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re, or repository, as an on-disk database named the CIMOM Object Repository. As p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s infrastructure, WMI supports several APIs through which management applications ac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data and providers supply data and class definition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programs use the WMI COM API, the primary management API, to directly intera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 WMI. Other APIs layer on top of the COM API and include an Open Database Connecti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ODBC) adapter for the Microsoft Access database application. A database develop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ses the WMI ODBC adapter to embed references to object data in the developer’s databas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n the developer can easily generate reports with database queries that contain WMI-bas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. WMI ActiveX controls support another layered API. Web developers use the Activ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s to construct Web-based interfaces to WMI data. Another management API i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API, for use in script-based applications and Microsoft Visual Basic program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scripting support exists for all Microsoft programming language technologi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they are for management applications, WMI COM interfaces constitute the primary API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viders. However, unlike management applications, which are COM clients, providers 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 or Distributed COM (DCOM) servers (that is, the providers implement COM ob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WMI interacts with). Possible embodiments of a WMI provider include DLLs that 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o WMI’s manager process or stand-alone Windows applications or Windows servic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includes a number of built-in providers that present data from well-known sourc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the Performance API, the registry, the Event Manager, Active Directory, SNM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s Driver Model (WDM) device drivers. The WMI SDK lets developers develop thirdpar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MI provid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discusses the scripting mechanisms (Windows Scripting Host, VBScript, Windows Management Instrumentation Scripting, Services for Unix, etc) available in Windows and uses a number of case study scenarios to compare those with UNIX scrip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more, the reader is encouraged to familiarize himself with the Windows way of accessing and administering OS functionality through GUI-based tools. However, those used to the command line style of programming and administration commonly found in other environments will find (nearly) all the typical tools at four different pla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XP/2000 CD \Support\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Resource K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ndows Services for UNIX and the Interix subsystem (with a complete POSIX subsystem and an enormous amount of GNU tools compiled for the Windows 2000 platfor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7969-38AF-43F1-BDF1-6CE575BBEB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ttle Softway his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Systems was started in September 1995 concurrent with a unique source license from MS that enabled Softway to take the MS POSIX subsystem (which was a GREAT proof-of-concept), and make it real in INTERI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oftway were done they had shipped ~40,000 paid s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was originally shipped under the technology brand of “OpenNT”.  It was rebranded as INTERIX in the Spring of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y had strategic relationships with Dell (every government workstation and server were bundled with Softway INTERIX Workstation-Lite) and UNISYS for certain government platfo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UNIX applications and scripts on Windows NT” means that one recompiles the source code of any programs as a native NT binary that behaves correctly (as if it was UNIX).  This is not a binary emulation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set of slides is based on a presentation given by Stephen R. Walli, Interix Product Unit Manager, Microsoft, at the TechEd 20000 conference in Amsterdam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E9FB-951C-46E4-823E-E98BC78BFC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sh, csh with full job 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 300 utilities, including scripting tools such as awk, sed, perl, Tcl/T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SD sockets mapped to Winsoc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 mapped fil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VID IPC mechanisms: semaphores, message queues and shared memo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-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or curses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bility to exec Win32 applications from Interix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 tty semantics mapped to console window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eudo terminal suppor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link support, true case sensitive file nam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ull integration with Windows NT security model, administration, file systems, networking and print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POSIX.1 and POSIX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11R5 clients such as xterm, twm, xrdb, and xlsclient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upport for daemons running as Windows NT service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user logi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etd, telnetd, rlogind, rshd, syslogd, talkd, ftpd and their client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on suppo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grated tape device suppo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2134-235F-4373-8E59-83BE023197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4640" cy="4217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ftware development kit (SDK) included with Interix 2.2, makes it easy to migrate existing UNIX-based applications to the Interix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92AF-5DB4-4364-9676-4C1F54274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84FCF-A92A-4174-B7C2-CFBF7C3C0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71ABB-38F4-406F-82A5-1DC1AE946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1D333-9CE8-4F4C-9C09-27E240171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2728-4B82-4AE5-9739-8CA0295B78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77083-BD89-40A4-A8A8-B638DF8E8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E412F-0DAD-42CC-B6BC-2236943B1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6495-ADD3-4DA4-B258-18F2522E7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50AF9-7781-4105-BA12-0430BB734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9BC7-3E92-419D-82DB-F7727E0CAE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97D2-1B58-4264-9126-55EA47DD4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5305-1E0E-4FB6-A895-2B5C119B6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8F24-28A9-4A28-834D-FF89A9E27859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2: Script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.1.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onitoring Infrastructure: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a historical view - before WMI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two native system monitoring mechanisms that have been in NT since its incep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vie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Moni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h can work remotely, but suffer several drawbacks with respect to general system manag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parate groups of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dire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to only performance data and event 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638B-906D-4648-9CF5-CE9E542AEC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 Management Infrastructure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a historical view - before 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T management mechanis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 Control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change configuration, but no notifications/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 AP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anaging computer membership in doma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erying computer OS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figuring user and group accou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ations of the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n-general: limited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04720" indent="-248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’t manage all aspects of a computer’s system configuration, software, or hardware devices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natively scriptable, Non-exten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09FA-5683-40AA-BE4D-2454A9981A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’s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locally and remo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-gra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directio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WMI “provider” can export functional interface and event notification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s can write their own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writers can leverage WMI-provider framework, called the WDM provider, to management-enable their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crip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o natively .NET programmable when .NET Framework is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852D7-0CA6-4D8A-A18C-45A9C7B83C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 - a closer loo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Database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13716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eb brow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137160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/C++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DBC (deprecat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28600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ActiveX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ontro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3200400"/>
            <a:ext cx="57913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dows Management A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8120" y="4191120"/>
            <a:ext cx="365760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Object Manager (CIMO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191120"/>
            <a:ext cx="1523880" cy="53316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CIM reposito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51814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1814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provi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SNMP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6095880"/>
            <a:ext cx="1523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Win32 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181480" y="6095880"/>
            <a:ext cx="152424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Registry</a:t>
            </a:r>
            <a:br>
              <a:rPr sz="1400"/>
            </a:br>
            <a:r>
              <a:rPr b="0" lang="en-US" sz="1400" spc="-1" strike="noStrike">
                <a:solidFill>
                  <a:srgbClr val="000033"/>
                </a:solidFill>
                <a:latin typeface="Arial"/>
              </a:rPr>
              <a:t>objec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76520" y="19051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2819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43600" y="19051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733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76520" y="4952880"/>
            <a:ext cx="426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724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49528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715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88360" y="38098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88360" y="47242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/D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137160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ment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4191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86600" y="52578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86600" y="6095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aged obje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5783-E791-43DE-8F79-28B924C3C6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Archite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ment appli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applications that access and display or process the data that they obtain about managed obje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. Perfmon or event viewer replace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ed as a Windows Service: Winmgmt.ex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s heart is the CIM Object Manager (CIMO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ue that binds management applications to provi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o serves as object-class store, and as storage for persistent object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rastructure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ary API is 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s layer on top of COM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DBC adap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MI ActiveX 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cripting AP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2E6F8-8AA1-4176-9DD0-F92A8A7419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Managed Resour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381880" cy="46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ical or physical component, which is exposed and manageable by using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s, peripheral devices, event logs, files, folders, file systems, networking component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subsystems, performance counters, printers, processes, registry, security, services, shar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 users and groups, Active Directory, Windows Installer, Windows Driver Model (WDM) device drivers, SNMP Management Information Base (MI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WMI managed resource communicates with WMI through a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309EA-1D5F-4438-91CD-6DBC457E32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Infrastruc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dle layer is the WMI infra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s for definition of and accessed to configuration and managemen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sists of three primary component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IM Object Manager (CIMOM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ommon Information Model (CIM) reposito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a fourth, small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3F3A0-72C3-45F2-B170-EEF7A090D0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mediary between WMI and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information from, and send instructions to WMI managed resources on behalf of consumer applications and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the implementation details unique to a managed resour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d resource is exposed based on WMI's uniform access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providers use managed resources’ native APIs, and communicate with the CIMOM using WMI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8F01-8293-45F4-9737-65943A3408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sible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-on providers can expose management functions unique to a produ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Systems Management Server, Internet Information Server, and SQL Server, Exchange Server, Microsoft Office, and many 3rd-party applications include WMI provi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rs are implemented as DLLs or stand-alone execu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ing in %SystemRoot%\system32\wb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includes many built-in providers for Windows: Performance API, Registry, Event Manager, Active Directory, SNMP, WDM, m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DK lets third-parties develop provi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739C-9A72-49AE-818A-2FB8A0508E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Provider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providers are COM or DCOM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ort objects that have properties and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 classes that are stored in CIMOM reposi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xecutes in-process providers (as opposed to those in dedicated application processes) in a separat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ents corruption of the RPC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rocess is placed in a Job to limit resource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3CA1E-5A2E-434D-9ECC-2E4A7C0D6F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F7C6-F132-451A-9006-AADF0F6C352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List of Standard WMI Provid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1143000"/>
          <a:ext cx="9144000" cy="5451480"/>
        </p:xfrm>
        <a:graphic>
          <a:graphicData uri="http://schemas.openxmlformats.org/drawingml/2006/table">
            <a:tbl>
              <a:tblPr/>
              <a:tblGrid>
                <a:gridCol w="1676520"/>
                <a:gridCol w="1218960"/>
                <a:gridCol w="1676520"/>
                <a:gridCol w="457200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L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sp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 Directo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s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irectory\ld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ps Active Directory objects to WMI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 Log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tevt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 Windows event logs, for example, read, backup, clear, copy, delete, monitor, rename, compress, uncompress, and change event log setting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Count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bemperf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raw performance dat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stry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d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defau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d, write, enumerate, monitor, create, and delete registry keys and val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mpincl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snm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SNMP MIB data and traps from SNMP-managed devic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DM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m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w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on WDM device driver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32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mwin32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information about the computer, disks, peripheral devices, files, folders, file systems, networking components, printers, processes, security, services, shares, et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dows Installer provid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iprov.dl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ot\cimv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des access to information about installed softwar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3BFE-EC2D-49A4-8543-BB495740BE3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O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nformation bro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WMI requests and data flow through the CIM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ed inside Windows Management Instrumentation service, winmgmt.ex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OM provides core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r regi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ery processing  - WMI Query Language (W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proces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8F9AA-C1E6-4912-920E-A21A7D4847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Reposito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ation and management information from different sources can be uniformly represented with a sch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IM is the schema, also called the object repository or class store that models the managed environment and defines every piece of data exposed by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generally represent dynamic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ces of resources can be stored in the CIM, but are generally dynamically retrieved by a provider based on a consumer requ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CC21-A2D4-45B9-813E-24E096F81A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IM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M classes consist of properties and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erties describe the configuration and state of a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s are executable functions that perform actions on the WMI managed re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Windows XP CIM consists of the following files in %SystemRoot%\system32\wbem\Repository\FS\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btr - Binary-tree (btree) index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data - CIM repository where managed resource definitions are sto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s.map - Transaction control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AD39-9A1A-4CBF-B2BB-B4296775EA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ing Libra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of automation objec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 languages, such as VBScript, Jscript, and ActiveState's ActivePerl access the WMI infrastructure via these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s a consistent and uniform scripting model for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ing library is implemented in a single DLL named wbemdisp.dll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des in %SystemRoot%\system32\wbem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des a type library named wbemdisp.tlb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scripting type library can be used to reference WMI constants from XML-based Windows Script Files, WSH scripts with a .wsf exten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07DC4-8468-4914-83C1-CB9B376E5A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Consum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s are the top lay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nsumer is a script, enterprise management application, Web-based application, or other administrative tool, that accesses and controls management information available through the WMI infrastru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management applications serve dual roles as both WMI consumer and WMI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tion Center, Operations Manager, and Systems Management Server are exam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4B02-0F1E-4922-AC85-9B39084404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ntrol (wmimgmt.msc) is a Microsoft Management Console (MMC) snap-in that allows you to configure WMI settings on a local or remote comp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Te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(wbemtest.exe) is a general-purpose, graphical tool for interacting with the WMI infra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 into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can use WMI Tester to browse the CIM schema and examine managed resource class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Tester can also be used to perform the same actions your WMI-based scripts perform, such as retrieving instances of managed resources and running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14C67-B0FB-4BB0-95FF-A527E9EB02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xploring the CIM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Command-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d as part of Windows XP Professional and Server 2003, the WMI Command-line tool (wmic.exe) provides a command line interface to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can use wmic.exe to perform common WMI tasks from the command line, including browsing the CIM and examining CIM class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M Stud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M Studio, part of the WMI SDK, provides a Web-based interface to interact with the WMI infra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et Scri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umClasses.vbs, EnumInstances.vbs, and EnumNamespaces.v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et Script Center - http://www.microsoft.com/technet/community/scriptcenter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5AFC-6264-46EE-A9E1-86265052A1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ost popular interface is the scripting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eed for third-party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 like stand-alone utilities, but easily modif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cript.exe is the command-line interface to Windows Script Host (WS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script scriptname.extension [options..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help, type Cscript /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0680" indent="-3106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et Scripting Center has more than hundre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 Basic scripts that use W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technet/community/scriptcenter/default.m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8960" indent="-315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start a process on a remote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28400" indent="-23436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script exec.vbs /s servername /e notep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44D5-A89D-4470-B3EB-B15AE5BE05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mote Process Execu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rpt from exec.vb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03680" y="3054240"/>
            <a:ext cx="183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40240" y="2057400"/>
            <a:ext cx="7861680" cy="44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Connect("root\cimv2"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UserName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Password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Server   ,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objService  )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Call Wscript.Echo("Please check the server name, "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amp; "credentials and WBEM Core.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End I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trMessage = "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ProcessId = 0Set objInstance = objService.Get("Win32_Process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blnErrorOccurred(" occurred getting a " &amp; 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    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" Win32_Process class object.")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f objInstance is nothing Then Exit Su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intStatus = objInstance.Create(strCommand, null, null, intProcessI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7B46-EE00-4905-92E8-DB5D53E17E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2.1.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Management Instrumentation (WM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ical View on Windows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 Scripting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MI-base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X Scripting Support for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9731B-130A-4CAF-80C0-B79AA579483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Obtain physical memory siz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LogicalMemoryConfiguration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Script.Echo "Total Physical Memory (kb): " &amp; wbemObject.TotalPhysical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71F1-CB55-4F24-A4E3-199A9488980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Script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Retrieve services inform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rComputer = ”fin”  # target computer’s 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Services = GetObject("winmgmts:\\" &amp; strCompu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t wbemObjectSet = wbemServices.InstancesOf("Win32_Service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or Each wbemObject In wbemObject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Script.Echo "Display Name:  " &amp; wbemObject.DisplayName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te:      " &amp; wbemObject.State       &amp; _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vbCrLf &amp; _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  Start Mode: " &amp; wbemObject.StartM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DC10-E3AE-4C02-954F-D1879D8348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63280" y="38052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bemtest Ut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5280" y="1305000"/>
            <a:ext cx="4343400" cy="3705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733920" y="3294000"/>
            <a:ext cx="4467240" cy="2698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32000" y="2708280"/>
            <a:ext cx="2376360" cy="792000"/>
          </a:xfrm>
          <a:prstGeom prst="line">
            <a:avLst/>
          </a:prstGeom>
          <a:ln w="38160">
            <a:solidFill>
              <a:srgbClr val="99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7BB0-3463-4514-8A18-C35065745F5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-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terix Subsystem for Window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ix - a full POSIX subsystem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replaces the original POSIX subsystem on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network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operability between POSIX and Windows subsystems (CreateProcess(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 for UNIX (SFU 3.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ndled with many essential UNIX tools (X11R5 clien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ix allows to run UNIX applications and scripts on Windows (after re-compil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0150-4474-4230-A9F0-C7F52DC94C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ices for Unix + Interix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3059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environment to run UNIX applications and scripts on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y integrated with Wind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 300 utilities and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lete software development 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for more than 1900 UNIX AP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FU is freely downloadable 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ww.microsoft.com/windowsserversystem/sfu/download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7643D-472C-4CFB-926A-A44BF0E244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Feat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lls: KornShell and C Sh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languages: awk, perl, sed, and Tcl/T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min tools: rsh, rlogin, telnet and xte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tch tools: At, cron and b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6E3EE-13D5-4BFC-8053-FC8A524C5AB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FU 3.5 SD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 for 1900+ interfa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SI C, POSIX.1 and POSIX.2 interfa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 tools: make, RCS, lex, yacc, cc, c89, nm, ar, str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ilers: gcc, g++, g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 curses librar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SD-style sockets library suppor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11R5 libraries and header fi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 Visual C/C++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74742-103F-4DB0-A869-1B5F76C80FD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oir, Understand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ain Lissior, Leveraging Windows Management Instrumentation (WMI) Scripting, Digital Press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Greg Stemp, Dean Tsaltas, and Bob Wells (Microsoft Corporation)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than Wilansky (Network Design Group);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-BoldMT"/>
              </a:rPr>
              <a:t>WMI Scripting clin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dnclinic/html/scripting06112002.a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3330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Management Instrumentation (from pp. 23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MI Software Developers Kit (SDK) Documen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8320" indent="-328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s about UNIX scripting on Windows in Unit OS-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A57F-D544-4F86-8517-478A0B58D0C5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Introduc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cript is a sequence of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a program, but its not comp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s are dynamically interpreted by a scripting eng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use scripts are plain-text source and not compiled, they are easy to change and to sh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FB15-4376-4FC2-AE80-4FE06DCE3D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cripting Suppor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ipting support requ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engine that reads the scripting language and interprets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ation via the scripting engine to interactive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includes an extensible scripting eng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ly supports VB (Visual Basic) and J (Java) scri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rich interaction with operating system environment via Windows Management Instru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492E-FA78-482E-9D31-7EE86CE663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Verdana"/>
              </a:rPr>
              <a:t>Microsoft Windows Management Instrumentation (WMI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MI is the core management-enabling technology fo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ilt into Windows 2000, Windows XP, and Windows Server 200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iginally released in 1998 as an add-on with Windows NT 4.0 Service Pack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sed on industry standar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verseen by the Distributed Management Task Force (DMT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most all Windows resources can be accessed, configured, managed, and monitored via W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3BA0-9D5D-4DD6-9DFD-17DACAE625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MI Backgroun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53452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an implementation of Web-Based Enterprise Management (WBEM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is a standard that the Distributed Management Task Force (DMTF) def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was added to address two short-comings in previous versions of 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te monitoring &amp;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rip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is in Windows 2000 an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on for NT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ited version available Win9x/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7958-20E2-4C30-A0F2-77BBACAF74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-based scripts using COM auto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cript Host / VBScript / ActivePer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t-in WMI tool with XP (except Home Edition) and Server 2003: WMI Console (WMIC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tem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 helps to retrieve performance data, manage event logs, file systems, printers, processes, registry settings, scheduler, security, services, shares, and numerous other operating system components and configuration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MI-based scripts can manage network services such as DNS, DHCP, and SNMP-enabled de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C8DD1-6854-4B3D-9047-E15F7B5043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pplicability of WMI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health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can monitor and respond to event log entries as they occur, file system and registry modifications, and other real-time operating system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event subscriptions and notifications are to WMI what SNMP traps are in the SNMP wor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MI scripts can manage Microsoft Application Center, Operations Manager, Systems Management Server, Internet Information Server, Exchange Server, and 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E8E42-00FE-400B-9B0D-CF4C5B2FF7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cp:lastPrinted>2005-12-20T20:50:16Z</cp:lastPrinted>
  <dcterms:modified xsi:type="dcterms:W3CDTF">2006-02-07T23:51:05Z</dcterms:modified>
  <cp:revision>116</cp:revision>
  <dc:subject>Windows Operating Systems Internals Course</dc:subject>
  <dc:title>Unit OS 12: Scripting</dc:title>
</cp:coreProperties>
</file>